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Click to move the slide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589C-6ED8-43AE-9224-A5983D905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95E1-153E-42DF-AEFA-BC4446F2B4F4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1995-F5F4-41F1-97E1-518CE72EA8DD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EF3C-0BA5-410B-BAE3-AD59B409DDD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CC10-5ADE-4142-9B0B-2E5104EA7DCD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25E-7E34-4C73-BB5C-1D21CED7E9C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5A18-670A-46BC-B17D-297116B4D29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E24-0B06-4404-AFD2-A0F2A56B1B9E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45D8-7E12-44AF-B23D-1F6B3CE9D7FB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6B05-489D-4F6C-AAC5-9A5AE95CE58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AA6-7A0C-4F07-B62F-FFF4D7BA2208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B98-BBB7-4725-A298-2176B4BE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4EE-A5C3-463E-A14C-0BE2A28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DC5-551D-4398-BACB-39D35C04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5F2-CFF0-4CB0-B33C-36EB7A09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B0BE-7FEA-44C8-A6CF-613BFF6C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42A5-4085-43D2-BE7A-3B8A2CAF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2F4B-206E-4FD8-BFF9-B8695BE8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D437-D432-4288-B593-B5C32A4A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546-6F7A-45DA-A64C-43C1BB3C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295D-BBA4-4664-9680-E7C9CBE8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71DA-06FF-498D-8F37-C6F6479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7F2-C842-486A-A8F8-084307D8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3C36-CBE9-4D4B-B77C-ACE567D2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CE1-FC5A-47C7-B9BD-F625F2A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8314-792A-4CCA-B820-266FF82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AB5-86A4-4CD3-88FD-301BA299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10BE-9021-40FC-B74C-25B2F664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C75-13CE-4ABC-9CBB-A72026C7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EE8-E6CC-422C-8F72-01C52341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095-A789-41D8-AD71-E056E11A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359-88F3-42C7-B1F2-DAB151E8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643-446E-4BB5-89AF-EB79FEC7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67C-164D-4395-BBD6-D1F13A3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372-5A6C-44EE-A77A-09BC37E7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 flipH="1" rot="8842200">
            <a:off x="7446960" y="123120"/>
            <a:ext cx="1357200" cy="162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 rot="11970600">
            <a:off x="7524000" y="1762200"/>
            <a:ext cx="1359000" cy="1620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"/>
          <p:cNvPicPr/>
          <p:nvPr/>
        </p:nvPicPr>
        <p:blipFill>
          <a:blip r:embed="rId4"/>
          <a:stretch/>
        </p:blipFill>
        <p:spPr>
          <a:xfrm flipH="1" rot="9587400">
            <a:off x="7351200" y="356148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5"/>
          <a:stretch/>
        </p:blipFill>
        <p:spPr>
          <a:xfrm rot="133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1" marL="676080" indent="-25992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2" marL="1040040" indent="-20772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3" marL="1455840" indent="-20772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4" marL="1872000" indent="-207720">
              <a:spcBef>
                <a:spcPts val="799"/>
              </a:spcBef>
              <a:buClr>
                <a:srgbClr val="f77352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5" marL="1872000" indent="-20772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6" marL="1872000" indent="-20772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797-06A5-49DE-85C6-F93BF530F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 flipH="1" rot="7633800">
            <a:off x="4264920" y="4238640"/>
            <a:ext cx="23860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 rot="12549600">
            <a:off x="6479640" y="401076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 flipH="1" rot="9259800">
            <a:off x="684000" y="-36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 rot="12639600">
            <a:off x="3023640" y="-36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851-180D-43CF-8228-09560E1A3909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agxedo.com/" TargetMode="External"/><Relationship Id="rId2" Type="http://schemas.openxmlformats.org/officeDocument/2006/relationships/hyperlink" Target="http://www.photovis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5290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3300cd"/>
                </a:solidFill>
                <a:latin typeface="Lucida Sans"/>
              </a:rPr>
              <a:t>Techy T-shirts</a:t>
            </a:r>
            <a:endParaRPr b="0" lang="en-US" sz="72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24000" y="60580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00cc"/>
                </a:solidFill>
                <a:latin typeface="Times New Roman"/>
              </a:rPr>
              <a:t>By Andrea Robertson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00cd"/>
                </a:solidFill>
                <a:latin typeface="Lucida Sans"/>
              </a:rPr>
              <a:t>Ironing 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13000"/>
            <a:ext cx="7956720" cy="3317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Follow the transfer packs instructions for best results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Be prepared and prepare children for the chance of mistakes eg edges that don’t stick, burns etc 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pic>
        <p:nvPicPr>
          <p:cNvPr id="119" name="Picture 17" descr=""/>
          <p:cNvPicPr/>
          <p:nvPr/>
        </p:nvPicPr>
        <p:blipFill>
          <a:blip r:embed="rId1"/>
          <a:stretch/>
        </p:blipFill>
        <p:spPr>
          <a:xfrm>
            <a:off x="2843280" y="4113360"/>
            <a:ext cx="248436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lide1.JPG"/>
          <p:cNvPicPr/>
          <p:nvPr/>
        </p:nvPicPr>
        <p:blipFill>
          <a:blip r:embed="rId1"/>
          <a:stretch/>
        </p:blipFill>
        <p:spPr>
          <a:xfrm>
            <a:off x="0" y="728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00cd"/>
                </a:solidFill>
                <a:latin typeface="Lucida Sans"/>
              </a:rPr>
              <a:t>The Tech Design Process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pic>
        <p:nvPicPr>
          <p:cNvPr id="101" name="Picture 3" descr="Tech cycle Y10.gif"/>
          <p:cNvPicPr/>
          <p:nvPr/>
        </p:nvPicPr>
        <p:blipFill>
          <a:blip r:embed="rId1"/>
          <a:srcRect l="0" t="0" r="2653" b="0"/>
          <a:stretch/>
        </p:blipFill>
        <p:spPr>
          <a:xfrm>
            <a:off x="0" y="1305000"/>
            <a:ext cx="7343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rcRect l="3126" t="11117" r="3126" b="76580"/>
          <a:stretch/>
        </p:blipFill>
        <p:spPr>
          <a:xfrm>
            <a:off x="-71280" y="5769000"/>
            <a:ext cx="9251640" cy="9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4053" t="5039" r="3661" b="15719"/>
          <a:stretch/>
        </p:blipFill>
        <p:spPr>
          <a:xfrm>
            <a:off x="0" y="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rcRect l="3126" t="7672" r="3126" b="63292"/>
          <a:stretch/>
        </p:blipFill>
        <p:spPr>
          <a:xfrm>
            <a:off x="0" y="4437000"/>
            <a:ext cx="91440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rcRect l="3126" t="24409" r="3126" b="14562"/>
          <a:stretch/>
        </p:blipFill>
        <p:spPr>
          <a:xfrm>
            <a:off x="0" y="15228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Designing your logo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There are lots of websites that you could use.  For today's session try…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http://cooltext.com/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7352"/>
                </a:solidFill>
                <a:uFillTx/>
                <a:latin typeface="Book Antiqua"/>
                <a:hlinkClick r:id="rId1"/>
              </a:rPr>
              <a:t>http://www.tagxedo.com/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7352"/>
                </a:solidFill>
                <a:uFillTx/>
                <a:latin typeface="Book Antiqua"/>
                <a:hlinkClick r:id="rId2"/>
              </a:rPr>
              <a:t>http://www.photovisi.com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3300cd"/>
                </a:solidFill>
                <a:latin typeface="Lucida Sans"/>
              </a:rPr>
              <a:t>Websites for Ideas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6920" y="1550520"/>
            <a:ext cx="6877080" cy="5010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T-shirt Website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mooo.com.au/shop_mooo/clothing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chargrilled.co.nz/t-shirts/default.asp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mrvintage.co.nz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Photo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freedigitalphotos.net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Quote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quotationspage.com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00cc"/>
                </a:solidFill>
                <a:latin typeface="Book Antiqua"/>
              </a:rPr>
              <a:t>http://www.quoteland.com/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451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Arranging your Design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Use PowerPoint to set up your design </a:t>
            </a:r>
            <a:r>
              <a:rPr b="0" lang="en-NZ" sz="1600" spc="-1" strike="noStrike">
                <a:solidFill>
                  <a:srgbClr val="3300cc"/>
                </a:solidFill>
                <a:latin typeface="Book Antiqua"/>
              </a:rPr>
              <a:t>(its easy to reverse text in this programme)</a:t>
            </a:r>
            <a:endParaRPr b="0" lang="en-US" sz="16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00cc"/>
                </a:solidFill>
                <a:latin typeface="Book Antiqua"/>
              </a:rPr>
              <a:t>Reverse any text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00cc"/>
                </a:solidFill>
                <a:latin typeface="Book Antiqua"/>
              </a:rPr>
              <a:t>Print a test page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  <p:pic>
        <p:nvPicPr>
          <p:cNvPr id="112" name="Picture 7" descr="Life.jpg"/>
          <p:cNvPicPr/>
          <p:nvPr/>
        </p:nvPicPr>
        <p:blipFill>
          <a:blip r:embed="rId1"/>
          <a:stretch/>
        </p:blipFill>
        <p:spPr>
          <a:xfrm>
            <a:off x="576360" y="4113360"/>
            <a:ext cx="3779640" cy="117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Life.jpg"/>
          <p:cNvPicPr/>
          <p:nvPr/>
        </p:nvPicPr>
        <p:blipFill>
          <a:blip r:embed="rId2"/>
          <a:stretch/>
        </p:blipFill>
        <p:spPr>
          <a:xfrm>
            <a:off x="3743280" y="4976640"/>
            <a:ext cx="3795840" cy="154800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10"/>
          <p:cNvCxnSpPr/>
          <p:nvPr/>
        </p:nvCxnSpPr>
        <p:spPr>
          <a:xfrm>
            <a:off x="4500720" y="3068640"/>
            <a:ext cx="1008720" cy="1945440"/>
          </a:xfrm>
          <a:prstGeom prst="straightConnector1">
            <a:avLst/>
          </a:prstGeom>
          <a:ln w="9360">
            <a:solidFill>
              <a:srgbClr val="33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Lucida Sans"/>
              </a:rPr>
              <a:t>The Transfer</a:t>
            </a:r>
            <a:endParaRPr b="0" lang="en-US" sz="3600" spc="-1" strike="noStrike">
              <a:solidFill>
                <a:srgbClr val="3300cd"/>
              </a:solidFill>
              <a:latin typeface="Lucida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You can purchase transfers from Harvey Norman, Warehouse Stationary etc 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  <a:p>
            <a:pPr marL="339480" indent="-339480">
              <a:spcBef>
                <a:spcPts val="451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If buying in bulk I use Trade Me - </a:t>
            </a:r>
            <a:r>
              <a:rPr b="1" lang="en-NZ" sz="1800" spc="-1" strike="noStrike">
                <a:solidFill>
                  <a:srgbClr val="3300cc"/>
                </a:solidFill>
                <a:latin typeface="Book Antiqua"/>
              </a:rPr>
              <a:t>HEAT PRESS INKJET t shirt transfer paper 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00cc"/>
                </a:solidFill>
                <a:latin typeface="Book Antiqua"/>
              </a:rPr>
              <a:t>HEATPRESSMEDIA'S A4 for dark/light &amp; white tees</a:t>
            </a:r>
            <a:endParaRPr b="0" lang="en-US" sz="1800" spc="-1" strike="noStrike">
              <a:solidFill>
                <a:srgbClr val="3300cc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f77352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Book Antiqua"/>
              </a:rPr>
              <a:t>Once you have printed – cut around your design leaving rounded edges</a:t>
            </a:r>
            <a:endParaRPr b="0" lang="en-US" sz="3200" spc="-1" strike="noStrike">
              <a:solidFill>
                <a:srgbClr val="3300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45:36Z</dcterms:created>
  <dc:creator>Presentation Magazine</dc:creator>
  <dc:description/>
  <dc:language>en-US</dc:language>
  <cp:lastModifiedBy>roban31p</cp:lastModifiedBy>
  <dcterms:modified xsi:type="dcterms:W3CDTF">2010-09-03T00:16:09Z</dcterms:modified>
  <cp:revision>26</cp:revision>
  <dc:subject/>
  <dc:title>Hands Template</dc:title>
</cp:coreProperties>
</file>